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8AF-3D66-4695-A867-F24F5514D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30C7-E4EA-4533-BA8B-F9F29892D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F2A-C762-4999-B0C2-DE2B6CC1C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07E-5583-4379-AB70-A46D7143E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092E-6A57-4F09-B203-7D9148943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C467-DB75-4739-88EA-D82DA96E7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529-DB44-4E7C-87FB-DADB01A0F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0166-F08A-4729-A167-CCC7BD754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87B-5CB0-4627-AF69-B4D9BEB63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04D-6717-410D-AC28-C1F94ACEC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F235-36EB-4280-B1E7-EB5C18888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C90-86E8-426E-ABEB-DB88AFBA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D5F-1476-41A4-8553-8323CB6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071-B443-4071-BFDB-FE78A2F3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D3C-EC86-4615-A5E5-9712DFB4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F3E-0F09-4F35-BDD6-3031E32F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E7A-6A50-4C2D-896C-63A946F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40C-0C34-45AC-B59B-B288EC9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3ED-A65E-4CC7-AB46-3F5FDBC8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977-878B-4B1D-88EC-E0107D5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0FF-6874-4B13-9F38-AF2346E4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7FD-7EA5-402B-8AC8-017FDD56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E35-EE3A-414B-B54A-5EEFD42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5b7"/>
            </a:gs>
            <a:gs pos="100000">
              <a:srgbClr val="ffe6c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182-9DBB-4E0D-BA74-9D361E895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Государственное 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«Тверской колледж транспорта и сервис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"/>
          <p:cNvPicPr/>
          <p:nvPr/>
        </p:nvPicPr>
        <p:blipFill>
          <a:blip r:embed="rId1"/>
          <a:stretch/>
        </p:blipFill>
        <p:spPr>
          <a:xfrm>
            <a:off x="1212840" y="1749600"/>
            <a:ext cx="7394760" cy="3816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3"/>
          <a:stretch/>
        </p:blipFill>
        <p:spPr>
          <a:xfrm>
            <a:off x="987480" y="1073160"/>
            <a:ext cx="79372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4"/>
          <a:stretch/>
        </p:blipFill>
        <p:spPr>
          <a:xfrm>
            <a:off x="628560" y="5675400"/>
            <a:ext cx="87170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53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154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Прямоугольник 15" descr=""/>
          <p:cNvPicPr/>
          <p:nvPr/>
        </p:nvPicPr>
        <p:blipFill>
          <a:blip r:embed="rId1"/>
          <a:stretch/>
        </p:blipFill>
        <p:spPr>
          <a:xfrm>
            <a:off x="1517760" y="-42840"/>
            <a:ext cx="702288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Антонио\Desktop\фото3.jpg"/>
          <p:cNvPicPr/>
          <p:nvPr/>
        </p:nvPicPr>
        <p:blipFill>
          <a:blip r:embed="rId2"/>
          <a:srcRect l="7693" t="0" r="5768" b="0"/>
          <a:stretch/>
        </p:blipFill>
        <p:spPr>
          <a:xfrm>
            <a:off x="1295280" y="1143000"/>
            <a:ext cx="6858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16" descr=""/>
          <p:cNvPicPr/>
          <p:nvPr/>
        </p:nvPicPr>
        <p:blipFill>
          <a:blip r:embed="rId3"/>
          <a:stretch/>
        </p:blipFill>
        <p:spPr>
          <a:xfrm>
            <a:off x="1212840" y="3767040"/>
            <a:ext cx="2670120" cy="124956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18" descr=""/>
          <p:cNvPicPr/>
          <p:nvPr/>
        </p:nvPicPr>
        <p:blipFill>
          <a:blip r:embed="rId4"/>
          <a:stretch/>
        </p:blipFill>
        <p:spPr>
          <a:xfrm>
            <a:off x="3498840" y="5138640"/>
            <a:ext cx="2268720" cy="12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66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167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Прямоугольник 10"/>
          <p:cNvSpPr/>
          <p:nvPr/>
        </p:nvSpPr>
        <p:spPr>
          <a:xfrm>
            <a:off x="1295280" y="1752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Спасибо  за  работу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Антонио\Desktop\Фото1.jpg"/>
          <p:cNvPicPr/>
          <p:nvPr/>
        </p:nvPicPr>
        <p:blipFill>
          <a:blip r:embed="rId1"/>
          <a:stretch/>
        </p:blipFill>
        <p:spPr>
          <a:xfrm>
            <a:off x="1676520" y="3124080"/>
            <a:ext cx="6705360" cy="29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54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55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10"/>
          <p:cNvSpPr/>
          <p:nvPr/>
        </p:nvSpPr>
        <p:spPr>
          <a:xfrm>
            <a:off x="914400" y="121932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Технология работы в программе обработки видеофайлов. Интерфейс программы обработки видео и мультимедийных файлов. Создание и публикация фильма на компьюте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13" descr=""/>
          <p:cNvPicPr/>
          <p:nvPr/>
        </p:nvPicPr>
        <p:blipFill>
          <a:blip r:embed="rId1"/>
          <a:stretch/>
        </p:blipFill>
        <p:spPr>
          <a:xfrm>
            <a:off x="1517760" y="-171360"/>
            <a:ext cx="7022880" cy="1025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838080" y="3657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актическая работа: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«Редактиро-вание импортированных файлов. Добав-ление и настройка звука»              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-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914400" y="53341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Учебная практика: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оздание из эле-ментов мультимедиа контента закон-ченного видео-продукта               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- 4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67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68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рямоугольник 10"/>
          <p:cNvSpPr/>
          <p:nvPr/>
        </p:nvSpPr>
        <p:spPr>
          <a:xfrm>
            <a:off x="762120" y="51055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ОБСУЖДАЕМ ТЕМУ ВИДЕОПРОЕК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Антонио\Desktop\фото5.jpg"/>
          <p:cNvPicPr/>
          <p:nvPr/>
        </p:nvPicPr>
        <p:blipFill>
          <a:blip r:embed="rId1"/>
          <a:stretch/>
        </p:blipFill>
        <p:spPr>
          <a:xfrm>
            <a:off x="1143000" y="1143000"/>
            <a:ext cx="7696080" cy="3962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3" descr=""/>
          <p:cNvPicPr/>
          <p:nvPr/>
        </p:nvPicPr>
        <p:blipFill>
          <a:blip r:embed="rId2"/>
          <a:stretch/>
        </p:blipFill>
        <p:spPr>
          <a:xfrm>
            <a:off x="1517760" y="-171360"/>
            <a:ext cx="7022880" cy="102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79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80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оугольник 14" descr=""/>
          <p:cNvPicPr/>
          <p:nvPr/>
        </p:nvPicPr>
        <p:blipFill>
          <a:blip r:embed="rId1"/>
          <a:stretch/>
        </p:blipFill>
        <p:spPr>
          <a:xfrm>
            <a:off x="835200" y="-171360"/>
            <a:ext cx="8162640" cy="1025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609480" y="1066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Вид работ: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оздание из элементов мульти-медиа контента законченного видео-проду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2"/>
          <p:cNvSpPr/>
          <p:nvPr/>
        </p:nvSpPr>
        <p:spPr>
          <a:xfrm>
            <a:off x="685800" y="2303640"/>
            <a:ext cx="83059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  <a:ea typeface="Calibri"/>
              </a:rPr>
              <a:t>вспомнит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и параметры форматов аудио-, графических, видео- и мультимедийных  файлов и методы их конвертир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начение и  функциональные возможности программы Киностудия Windows Liv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собы управления файлами данных на локальных, съемных запоминающих устройствах, а  также на дисках локальной компьютерной сети и в сети Интерне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выки создания и редактирования графических объектов с помощью программ для обработки растровой граф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ы работы по воспроизведению аудио-, визуального контента и медиафайлов средствами персонального компьютера и мультимедийного оборуд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ользование мультимедиа-проектор для демонстрации содержимого экранных фор с персонального компьют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  <a:ea typeface="Calibri"/>
              </a:rPr>
              <a:t>с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брабатывать аудио-, визуальный контент и медиафайлы средствами звуковых, графических и видео-редак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28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здавать видеоролики, презентации, слайд-шоу, медиафайлы и другую продукцию из исходных аудио-, визуальных и мультимедийных компонен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</a:rPr>
              <a:t>приобретете опы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я видеороликов из исходных аудио-, визуальных и мультимедийных компон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3"/>
          <p:cNvSpPr/>
          <p:nvPr/>
        </p:nvSpPr>
        <p:spPr>
          <a:xfrm>
            <a:off x="2362320" y="1905120"/>
            <a:ext cx="5638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33"/>
                </a:solidFill>
                <a:uFillTx/>
                <a:latin typeface="Arial"/>
                <a:ea typeface="Calibri"/>
              </a:rPr>
              <a:t>В результате освоения учебного модуля Вы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92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93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Прямоугольник 10"/>
          <p:cNvSpPr/>
          <p:nvPr/>
        </p:nvSpPr>
        <p:spPr>
          <a:xfrm>
            <a:off x="685800" y="356544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222268"/>
                </a:solidFill>
                <a:uFillTx/>
                <a:latin typeface="Arial"/>
              </a:rPr>
              <a:t>Учебно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222268"/>
                </a:solidFill>
                <a:uFillTx/>
                <a:latin typeface="Arial"/>
              </a:rPr>
              <a:t>производственное зада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</a:rPr>
              <a:t>самостоятельно спланировать технологичес-кий процесс монтажа и озвучивания видео-клипа по востребованной у потребителя те-матике, выполнить технологические требо-вания, обеспечить качество производст-венной раб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762120" y="129528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22268"/>
                </a:solidFill>
                <a:uFillTx/>
                <a:latin typeface="Arial"/>
              </a:rPr>
              <a:t>Трудовая функция: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ыполнение технологических процессов монтажа видеофиль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Антонио\Desktop\фото2.jpg"/>
          <p:cNvPicPr/>
          <p:nvPr/>
        </p:nvPicPr>
        <p:blipFill>
          <a:blip r:embed="rId1"/>
          <a:stretch/>
        </p:blipFill>
        <p:spPr>
          <a:xfrm>
            <a:off x="5029200" y="1219320"/>
            <a:ext cx="3962520" cy="280188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8" descr=""/>
          <p:cNvPicPr/>
          <p:nvPr/>
        </p:nvPicPr>
        <p:blipFill>
          <a:blip r:embed="rId2"/>
          <a:stretch/>
        </p:blipFill>
        <p:spPr>
          <a:xfrm>
            <a:off x="1365120" y="-42840"/>
            <a:ext cx="70232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05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106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Прямоугольник 10"/>
          <p:cNvSpPr/>
          <p:nvPr/>
        </p:nvSpPr>
        <p:spPr>
          <a:xfrm>
            <a:off x="685800" y="12952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Цель-гипотез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выполнив задание, я смогу самостоятельн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762120" y="3886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для этого мне нужн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15" descr=""/>
          <p:cNvPicPr/>
          <p:nvPr/>
        </p:nvPicPr>
        <p:blipFill>
          <a:blip r:embed="rId1"/>
          <a:stretch/>
        </p:blipFill>
        <p:spPr>
          <a:xfrm>
            <a:off x="1517760" y="-42840"/>
            <a:ext cx="70228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17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118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оугольник 10"/>
          <p:cNvSpPr/>
          <p:nvPr/>
        </p:nvSpPr>
        <p:spPr>
          <a:xfrm>
            <a:off x="762120" y="5867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составляем 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15" descr=""/>
          <p:cNvPicPr/>
          <p:nvPr/>
        </p:nvPicPr>
        <p:blipFill>
          <a:blip r:embed="rId1"/>
          <a:stretch/>
        </p:blipFill>
        <p:spPr>
          <a:xfrm>
            <a:off x="1517760" y="-42840"/>
            <a:ext cx="702288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" descr="C:\Users\Антонио\Desktop\фото5.jpg"/>
          <p:cNvPicPr/>
          <p:nvPr/>
        </p:nvPicPr>
        <p:blipFill>
          <a:blip r:embed="rId2"/>
          <a:stretch/>
        </p:blipFill>
        <p:spPr>
          <a:xfrm>
            <a:off x="1143000" y="114300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29" name="Group 21"/>
            <p:cNvGrpSpPr/>
            <p:nvPr/>
          </p:nvGrpSpPr>
          <p:grpSpPr>
            <a:xfrm>
              <a:off x="217440" y="380880"/>
              <a:ext cx="8926560" cy="373320"/>
              <a:chOff x="217440" y="380880"/>
              <a:chExt cx="8926560" cy="373320"/>
            </a:xfrm>
          </p:grpSpPr>
          <p:sp>
            <p:nvSpPr>
              <p:cNvPr id="130" name="Rectangle 2"/>
              <p:cNvSpPr/>
              <p:nvPr/>
            </p:nvSpPr>
            <p:spPr>
              <a:xfrm rot="5400000">
                <a:off x="4608360" y="-378144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"/>
              <p:cNvSpPr/>
              <p:nvPr/>
            </p:nvSpPr>
            <p:spPr>
              <a:xfrm rot="5400000">
                <a:off x="4608360" y="-4010040"/>
                <a:ext cx="14472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10"/>
          <p:cNvSpPr/>
          <p:nvPr/>
        </p:nvSpPr>
        <p:spPr>
          <a:xfrm>
            <a:off x="1219320" y="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Arial"/>
              </a:rPr>
              <a:t>Выполнение работ по созданию видеокл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09480" y="1451880"/>
            <a:ext cx="42674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. Соответствие содержания видеоролика выбранной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2.  Оригина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3. Наличие содержания, его соответствие теме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4.  Сбалансированность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5.  Использование звукового сопровождения  и его умес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6.   Соблюдение автор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7. Оформление первого и заключительного кадров в соответствии с требованиями по оформлению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8.   Видео проигр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9.   Аудио проигр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5029200" y="1457640"/>
            <a:ext cx="388620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0.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Обоснованное использование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1. Текстовая и графическая информация не имеет на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2.  Качество звука, звук уместно обре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3. Время воспроизведения кадров правильно подобр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4. Качество изображений. Авторская ориги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5. Синхронизация музыки и изоб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Calibri"/>
              </a:rPr>
              <a:t>16. Стыковка отдельных фрагментов уда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4"/>
          <p:cNvSpPr/>
          <p:nvPr/>
        </p:nvSpPr>
        <p:spPr>
          <a:xfrm>
            <a:off x="2302920" y="76212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22268"/>
                </a:solidFill>
                <a:uFillTx/>
                <a:latin typeface="Arial"/>
                <a:ea typeface="Calibri"/>
              </a:rPr>
              <a:t>Критерии оценки видеоро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2"/>
          <p:cNvGrpSpPr/>
          <p:nvPr/>
        </p:nvGrpSpPr>
        <p:grpSpPr>
          <a:xfrm>
            <a:off x="60480" y="0"/>
            <a:ext cx="9083520" cy="6850080"/>
            <a:chOff x="60480" y="0"/>
            <a:chExt cx="9083520" cy="6850080"/>
          </a:xfrm>
        </p:grpSpPr>
        <p:grpSp>
          <p:nvGrpSpPr>
            <p:cNvPr id="142" name="Group 21"/>
            <p:cNvGrpSpPr/>
            <p:nvPr/>
          </p:nvGrpSpPr>
          <p:grpSpPr>
            <a:xfrm>
              <a:off x="217440" y="762120"/>
              <a:ext cx="8926560" cy="372960"/>
              <a:chOff x="217440" y="762120"/>
              <a:chExt cx="8926560" cy="372960"/>
            </a:xfrm>
          </p:grpSpPr>
          <p:sp>
            <p:nvSpPr>
              <p:cNvPr id="143" name="Rectangle 2"/>
              <p:cNvSpPr/>
              <p:nvPr/>
            </p:nvSpPr>
            <p:spPr>
              <a:xfrm rot="5400000">
                <a:off x="4608360" y="-34002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3"/>
              <p:cNvSpPr/>
              <p:nvPr/>
            </p:nvSpPr>
            <p:spPr>
              <a:xfrm rot="5400000">
                <a:off x="4608360" y="-3628800"/>
                <a:ext cx="144360" cy="8926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4"/>
            <p:cNvSpPr/>
            <p:nvPr/>
          </p:nvSpPr>
          <p:spPr>
            <a:xfrm rot="10800000">
              <a:off x="190080" y="0"/>
              <a:ext cx="381240" cy="6850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60480" y="36036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26880" y="550800"/>
              <a:ext cx="381240" cy="38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498600" y="274680"/>
              <a:ext cx="38088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c85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68200" y="130320"/>
              <a:ext cx="38124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оугольник 15" descr=""/>
          <p:cNvPicPr/>
          <p:nvPr/>
        </p:nvPicPr>
        <p:blipFill>
          <a:blip r:embed="rId1"/>
          <a:stretch/>
        </p:blipFill>
        <p:spPr>
          <a:xfrm>
            <a:off x="1517760" y="-42840"/>
            <a:ext cx="7022880" cy="755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609480" y="1066680"/>
            <a:ext cx="777240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Какую учебно-производственную задачу реш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 какой степени удалось решить поставленную задач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•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Что нужно сделать, что бы ролик стал более привлекательным? Что следует заме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•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Чему ещё необходимо на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• 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Где можно применить новую трудовую функ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МОРОЗОВА ГА</cp:lastModifiedBy>
  <dcterms:modified xsi:type="dcterms:W3CDTF">2017-11-22T10:37:23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